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27A015-636D-4756-9766-FF7C600D7C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1469CB-D401-42EC-9757-D7FE14A79B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BC95C2-46F4-49B4-B678-AAE7F57CDE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411B0E-26A7-4ED3-B167-B91425213C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2DA7FB9-227D-4EBA-AB9F-F6C4FF0B1C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320FAD-FD78-44BC-9D06-45DD583226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8AA1D9-7235-47AE-81DE-14DE7FA344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AA4B42-E8F2-46DF-8E5D-43DEFA1B7A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0E94E1-727F-4A2D-BE94-48BB082B92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3ED3FF-3825-454C-8CD1-D1DB0CC096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1955CE-21C0-4490-B998-1923B9A0F1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A79585-8027-4E6B-9B46-A961D3DEB7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9B2278-EC29-487B-BC04-14BAA841DA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7C4CEE-0733-4509-BBCE-8D23DAB517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9F338C-FC44-4536-A324-C9E18ABC4D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4CA025-667E-4B40-BD26-85C9242E2A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6FE90D-1841-40A2-BCEE-BB823B9578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4B2588-7BDF-43EC-9211-68646C85CB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443FCE-E707-4664-A97B-5EEB761D79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F4BFE6-05D2-48DF-9011-E869A2A4C2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333FD6-572D-49C2-BB71-5FF34A5D6A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0AE375-98F0-4F62-B8A0-137C74837A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1E259E-03B1-43F0-9C3F-479C5EE73A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6B5F61-8296-47C7-A6DF-1E5F5EA840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6560"/>
            <a:chOff x="0" y="0"/>
            <a:chExt cx="9144000" cy="6856560"/>
          </a:xfrm>
        </p:grpSpPr>
        <p:sp>
          <p:nvSpPr>
            <p:cNvPr id="1"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2"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9"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
            <p:cNvGrpSpPr/>
            <p:nvPr/>
          </p:nvGrpSpPr>
          <p:grpSpPr>
            <a:xfrm>
              <a:off x="0" y="2590920"/>
              <a:ext cx="9140760" cy="2949480"/>
              <a:chOff x="0" y="2590920"/>
              <a:chExt cx="9140760" cy="2949480"/>
            </a:xfrm>
          </p:grpSpPr>
          <p:sp>
            <p:nvSpPr>
              <p:cNvPr id="38"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C4D73-2499-4200-85A6-B5D62064999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81" name=""/>
          <p:cNvGrpSpPr/>
          <p:nvPr/>
        </p:nvGrpSpPr>
        <p:grpSpPr>
          <a:xfrm>
            <a:off x="0" y="0"/>
            <a:ext cx="9144000" cy="6856560"/>
            <a:chOff x="0" y="0"/>
            <a:chExt cx="9144000" cy="6856560"/>
          </a:xfrm>
        </p:grpSpPr>
        <p:sp>
          <p:nvSpPr>
            <p:cNvPr id="82"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7"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3"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10"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
            <p:cNvGrpSpPr/>
            <p:nvPr/>
          </p:nvGrpSpPr>
          <p:grpSpPr>
            <a:xfrm>
              <a:off x="0" y="2590920"/>
              <a:ext cx="9140760" cy="2949480"/>
              <a:chOff x="0" y="2590920"/>
              <a:chExt cx="9140760" cy="2949480"/>
            </a:xfrm>
          </p:grpSpPr>
          <p:sp>
            <p:nvSpPr>
              <p:cNvPr id="119"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122"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2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24"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69EF8-3680-47D6-ACD8-9B6960A1A33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2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outline text format</a:t>
            </a:r>
            <a:endParaRPr b="0" lang="en-US" sz="36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7b46d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45c984"/>
              </a:buClr>
              <a:buSzPct val="9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English</a:t>
            </a:r>
            <a:endParaRPr b="0" lang="en-US" sz="4800" spc="-1" strike="noStrike">
              <a:solidFill>
                <a:srgbClr val="ffffff"/>
              </a:solidFill>
              <a:latin typeface="Arial"/>
            </a:endParaRPr>
          </a:p>
        </p:txBody>
      </p:sp>
      <p:sp>
        <p:nvSpPr>
          <p:cNvPr id="16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Oct. 8</a:t>
            </a:r>
            <a:endParaRPr b="0" lang="en-US" sz="5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genda</a:t>
            </a:r>
            <a:endParaRPr b="0" lang="en-US" sz="4400" spc="-1" strike="noStrike">
              <a:solidFill>
                <a:srgbClr val="ffffff"/>
              </a:solidFill>
              <a:latin typeface="Arial"/>
            </a:endParaRPr>
          </a:p>
        </p:txBody>
      </p:sp>
      <p:sp>
        <p:nvSpPr>
          <p:cNvPr id="1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urn in your homework questions</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L</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 10</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cke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DOL</a:t>
            </a:r>
            <a:endParaRPr b="0" lang="en-US" sz="4400" spc="-1" strike="noStrike">
              <a:solidFill>
                <a:srgbClr val="ffffff"/>
              </a:solidFill>
              <a:latin typeface="Arial"/>
            </a:endParaRPr>
          </a:p>
        </p:txBody>
      </p:sp>
      <p:sp>
        <p:nvSpPr>
          <p:cNvPr id="1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6000"/>
          </a:bodyPr>
          <a:p>
            <a:pPr marL="329040" indent="-32904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 June 6 1642 an earthquake struck Port Royal jamaica and Port Royal was the home of many pirates and all the riches of the pirates fell into the sea along with the city so scuba divers are still looking for pirates treasure there.</a:t>
            </a:r>
            <a:endParaRPr b="0" lang="en-US" sz="3200" spc="-1" strike="noStrike">
              <a:solidFill>
                <a:srgbClr val="ffffff"/>
              </a:solidFill>
              <a:latin typeface="Arial"/>
            </a:endParaRPr>
          </a:p>
          <a:p>
            <a:pPr marL="3290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nealogy:family::etymology:_________</a:t>
            </a:r>
            <a:endParaRPr b="0" lang="en-US" sz="2800" spc="-1" strike="noStrike">
              <a:solidFill>
                <a:srgbClr val="ffffff"/>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ar:unendurable::see:___________</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ssignment</a:t>
            </a:r>
            <a:endParaRPr b="0" lang="en-US" sz="4400" spc="-1" strike="noStrike">
              <a:solidFill>
                <a:srgbClr val="ffffff"/>
              </a:solidFill>
              <a:latin typeface="Arial"/>
            </a:endParaRPr>
          </a:p>
        </p:txBody>
      </p:sp>
      <p:sp>
        <p:nvSpPr>
          <p:cNvPr id="16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scuss Ch. 10 </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ad ch. 11 together</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riting assignment</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omework</a:t>
            </a:r>
            <a:endParaRPr b="0" lang="en-US" sz="4400" spc="-1" strike="noStrike">
              <a:solidFill>
                <a:srgbClr val="ffffff"/>
              </a:solidFill>
              <a:latin typeface="Arial"/>
            </a:endParaRPr>
          </a:p>
        </p:txBody>
      </p:sp>
      <p:sp>
        <p:nvSpPr>
          <p:cNvPr id="171" name=""/>
          <p:cNvSpPr/>
          <p:nvPr/>
        </p:nvSpPr>
        <p:spPr>
          <a:xfrm>
            <a:off x="457200" y="1371600"/>
            <a:ext cx="8305920" cy="46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rial"/>
              </a:rPr>
              <a:t>Read Ch. 12 and 13, do questions. </a:t>
            </a:r>
            <a:endParaRPr b="0" lang="en-US" sz="6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rial"/>
              </a:rPr>
              <a:t>Have a good weekend!!</a:t>
            </a:r>
            <a:r>
              <a:rPr b="0" lang="en-US" sz="6000" spc="-1" strike="noStrike">
                <a:solidFill>
                  <a:srgbClr val="ffffff"/>
                </a:solidFill>
                <a:latin typeface="Wingdings"/>
                <a:ea typeface="Wingdings"/>
              </a:rPr>
              <a:t></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8T15:55:41Z</dcterms:created>
  <dc:creator>VMS</dc:creator>
  <dc:description/>
  <dc:language>en-US</dc:language>
  <cp:lastModifiedBy>VMS</cp:lastModifiedBy>
  <dcterms:modified xsi:type="dcterms:W3CDTF">2009-10-08T16:01:08Z</dcterms:modified>
  <cp:revision>1</cp:revision>
  <dc:subject/>
  <dc:title>English</dc:title>
</cp:coreProperties>
</file>